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0F1-C185-4CBB-9BD9-2121F18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667-816F-40C9-A03F-BF138E9F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3D1-276F-466F-AC94-A03C745D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382-6F20-46BE-8FF7-C22E6499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8CF-EB5B-415D-B610-C60A8AF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F4B-AF5F-41AF-86FA-96EDBA4B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41C-4A8B-4EE9-BE21-E60D3FB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2D6-9B83-43D6-A916-E055CCC6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644-B883-4C4D-BCFD-ECC2239D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1B1-A8B9-4324-B540-5606C7CD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2CC-773C-4946-83E5-0CEB3B6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ADE-02E8-444E-BDD7-D37164E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8912-5F5A-49A2-AB66-9976D39C5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2590920" y="990720"/>
            <a:ext cx="3962160" cy="27432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0" y="190440"/>
            <a:ext cx="2590920" cy="64389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6551640" y="228600"/>
            <a:ext cx="2592360" cy="64389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16"/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Geography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177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78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61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3023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60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9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70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72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2320" y="456552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7:11:51Z</dcterms:created>
  <dc:creator>EA User</dc:creator>
  <dc:description/>
  <dc:language>en-US</dc:language>
  <cp:lastModifiedBy>EA User</cp:lastModifiedBy>
  <dcterms:modified xsi:type="dcterms:W3CDTF">2009-08-24T17:14:55Z</dcterms:modified>
  <cp:revision>1</cp:revision>
  <dc:subject/>
  <dc:title>Room 1</dc:title>
</cp:coreProperties>
</file>